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5191"/>
        <c:axId val="17261023"/>
      </c:barChart>
      <c:catAx>
        <c:axId val="7855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61023"/>
        <c:crosses val="autoZero"/>
        <c:auto val="1"/>
        <c:lblAlgn val="ctr"/>
        <c:lblOffset val="100"/>
        <c:noMultiLvlLbl val="0"/>
      </c:catAx>
      <c:valAx>
        <c:axId val="17261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5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8ED-7F88-4108-968C-892DD206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83B-196A-4B93-803E-49356FD9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C81-B87C-455F-B7CA-2D2FB71A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D53-9411-442F-9B28-BAF464CF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8E6-58E2-4E16-9B89-4CEBE819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D7D-12B2-4398-BD6B-9343CA2C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CB7-511D-4920-BC8E-3241DDD7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C0A5-EBBD-4E47-9C0C-B38F5358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DF4-5BF0-4357-9AFD-62A2B4A8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DB5-31E5-4B70-A448-BF1F81EF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B9D0-7C6F-4F34-AC2F-92765B47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4F6B-47A6-4447-B694-63950F4C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9EFCD-E659-48EF-ABD2-5137562107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