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954154"/>
        <c:axId val="88627069"/>
      </c:barChart>
      <c:catAx>
        <c:axId val="919541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627069"/>
        <c:crosses val="autoZero"/>
        <c:auto val="1"/>
        <c:lblAlgn val="ctr"/>
        <c:lblOffset val="100"/>
        <c:noMultiLvlLbl val="0"/>
      </c:catAx>
      <c:valAx>
        <c:axId val="886270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9541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DA76-68C6-4962-B6FA-5F5EFE1F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737F-43D7-492F-A210-E0135E32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865E-6F8A-47A1-A856-29FE7BEE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0568-BF1F-47DA-A754-6DC9648EF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BBEA-818E-4FA6-903C-7468FE43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BD1B-FA07-47D9-94D8-2154C2BE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3A59-1841-4348-93EE-556E70A4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6535-91B7-4B14-91B5-DB56BE6E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E9D3-36D9-4D25-B045-0C7041E0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CE75-5B5F-4B61-8D49-4EDF2F80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2170-88C3-4D48-876E-1A2AF6A6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046C-DD13-4F8A-9BED-4A469ACF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6EDC6-530C-4916-9EAA-9C0F5A89EA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