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94F79-3F7B-49AF-A296-2695E31D856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F5AEDA-ACBE-4D84-BE85-120638D94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28D712-0C18-4C7A-AED3-8F2EA1C2B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4A59B1-DF48-41FC-81C6-F889BE198C9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4EB5F6-6374-43C7-91DB-7F5A6BB41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F42559-1517-40C2-96EF-2A3CC81ED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9735C8-B18E-4A9E-BF57-250AC35C9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16FAC3-1191-4D76-8583-1177239AC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E8FE8-A560-4770-9D04-8584FB73C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7812F2-6060-46A9-AE11-6A755C4C9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60C970-0395-4625-838E-A93F5A55B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7C3C9A-F123-4306-86A6-A4E6BDEB5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7527960" y="6499080"/>
            <a:ext cx="1127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8637480" y="6551640"/>
            <a:ext cx="13176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8866080" y="6553080"/>
            <a:ext cx="13176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93360" y="6400440"/>
            <a:ext cx="10652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93720" y="6553080"/>
            <a:ext cx="84456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</a:t>
            </a:r>
            <a:fld id="{C5E924A2-948E-413C-A512-538E15BEFCD6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6680" y="1523880"/>
            <a:ext cx="807732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96880" y="1676520"/>
            <a:ext cx="764712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28144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41120" y="6400440"/>
            <a:ext cx="2665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267080" y="4952880"/>
            <a:ext cx="4519800" cy="11289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isc.org/products/BIND/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isc.org/products/BIND/bind9.html" TargetMode="External"/><Relationship Id="rId2" Type="http://schemas.openxmlformats.org/officeDocument/2006/relationships/hyperlink" Target="http://www.isc.org/products/BIND/bind9-beta.html" TargetMode="External"/><Relationship Id="rId3" Type="http://schemas.openxmlformats.org/officeDocument/2006/relationships/hyperlink" Target="ftp://ftp.isc.org/" TargetMode="External"/><Relationship Id="rId4" Type="http://schemas.openxmlformats.org/officeDocument/2006/relationships/hyperlink" Target="http://www.isc.org/services/public/lists/bind-lists.html" TargetMode="External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90920" y="999720"/>
            <a:ext cx="624816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Installing BIND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uilding BIND9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/configu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udo make instal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7AD337-33ED-44D1-B938-E8ED9B95253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happe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Executabl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/usr/local/sbi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dnssec-keygen, dnssec-makekeyset, dnssec-signkey, dnssec-signzon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lwresd, named-checkconf, named-checkzon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rndc, rndc-confge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named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/usr/local/bi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di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host, isc-config.sh, nslookup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nsupdat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nd libraries "happen"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969936-AB4C-4AF0-AEB2-5191116706D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est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 sure right version is now install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 -v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A0CB7C-662F-4BD0-A467-6DBBAEC4F31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14240" y="771120"/>
            <a:ext cx="609588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triev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ilding, Install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iling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1EA3E0-E286-460A-BC11-17AFB8DCA35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9 Mailing List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oining mail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ttp://www.isc.org/services/public/lists/bind-lists.htm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nd9-users, bind-annou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bind-users is for bind8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rchi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ttp://www.isc.org/ml-archives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D78183-CB73-4790-91AA-6D6C2F38709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14240" y="771120"/>
            <a:ext cx="609588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triev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ilding, Install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iling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B10C90-40C2-46B2-A37A-F8DAB073827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trieving BIN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ternet Software Consortiu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TT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T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packages we'll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A4B59F-439F-4D0B-B392-857DDC1D2F2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ternet Software Consortium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urce for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Software: DHCP, NNT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der Development: OpenReg (EPP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  <a:hlinkClick r:id="rId1"/>
              </a:rPr>
              <a:t>http://www.isc.or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4BEF5A-9778-4994-9C27-6DB58734E0E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Version 8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In use, available, obsolet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Don't start to use it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Migrate to Version 9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(Okay, BIND 8 is faster than BIND 9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Version 9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Current versio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Releas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Release Candidate (Betas)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napshots (Alphas)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Never Use Snapshots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8C0D73-3CBB-4BBE-B5EB-2D3E3962DEA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Getting BIND 9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HTT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1"/>
              </a:rPr>
              <a:t>http://www.isc.org/products/BIND/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2"/>
              </a:rPr>
              <a:t>http://www.isc.org/products/BIND/bind9.html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BIND 9.2.1 toda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3"/>
              </a:rPr>
              <a:t>http://www.isc.org/products/BIND/bind9-beta.html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BIND 9.2.2.rc1 toda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FT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4"/>
              </a:rPr>
              <a:t>ftp.isc.org</a:t>
            </a: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 - anonymou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Change Directory to /isc/bind9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cd 9.2.1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cd 9.2.2rc1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tp://ftp.isc.org/isc/bind9/9.2.2rc1/bind-9.2.2rc1.tar.gz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D10A17-3BAE-4529-8D48-63FD872E6D8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Packag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SS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ill be needed for DNSSEC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et's wait on that..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F8669F-652A-452E-840B-8A61D5A5278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14240" y="771120"/>
            <a:ext cx="609588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triev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ilding, Install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iling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39044B-5F04-4700-A536-14C040ABFE5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npacking BIND9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ar -xzf bind-9.2.2rc1.tar.gz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Uncompresses and creates direct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nd-9.2.2rc1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's in there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 lot of stu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/configure (scri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/doc/arm/Bv9ARM.htm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dministrator's Reference Manua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ood source!!!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8D4F7D-F8C3-404F-A7C4-AD17AD6664E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9T01:37:02Z</dcterms:created>
  <dc:creator>ARIN Net</dc:creator>
  <dc:description/>
  <dc:language>en-US</dc:language>
  <cp:lastModifiedBy>Marmaduke Wildebeeste</cp:lastModifiedBy>
  <cp:lastPrinted>2009-04-22T19:24:48Z</cp:lastPrinted>
  <dcterms:modified xsi:type="dcterms:W3CDTF">2003-06-01T20:46:17Z</dcterms:modified>
  <cp:revision>11</cp:revision>
  <dc:subject/>
  <dc:title>Getting and Installing BIND</dc:title>
</cp:coreProperties>
</file>