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79E95-AB53-4437-9A07-35C0F035D1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40F56-EAB3-4B39-A177-9E94CC497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AAFDF-FFB5-486A-8698-D8F6C6B8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FB149-9002-4A26-938D-F588E39224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8BC4D-44A6-4E51-A839-D34AC0A57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42A73-4108-48FA-BB3D-2BC5EF4D4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DD847-7292-4D7F-A6F7-A80DBF9A0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6876E-C327-4493-94D6-56F491040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C411A-DEF5-4F2F-ABAB-1119EA901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9F23A-1835-46F4-A285-E8617D499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354B3-29EE-46C9-884B-8B2E099B2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5D754-C1DF-44D0-8168-E2964F019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5A8C9326-0503-4399-AF9B-F00C51349140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4952880"/>
            <a:ext cx="451980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bind9.html" TargetMode="External"/><Relationship Id="rId2" Type="http://schemas.openxmlformats.org/officeDocument/2006/relationships/hyperlink" Target="http://www.isc.org/products/BIND/bind9-beta.html" TargetMode="External"/><Relationship Id="rId3" Type="http://schemas.openxmlformats.org/officeDocument/2006/relationships/hyperlink" Target="ftp://ftp.isc.org/" TargetMode="External"/><Relationship Id="rId4" Type="http://schemas.openxmlformats.org/officeDocument/2006/relationships/hyperlink" Target="http://www.isc.org/services/public/lists/bind-lists.html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999720"/>
            <a:ext cx="624816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stalling BIND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d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/configu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udo make instal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2B184-216A-4DEC-B10B-0BA23B8D584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ppe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xecutab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s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nssec-keygen, dnssec-makekeyset, dnssec-signkey, dnssec-sign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lwresd, named-checkconf, named-check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ndc, rndc-confge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amed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i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host, isc-config.sh, nslookup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supdat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d libraries "happen"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5AF3E-C507-459E-9E26-5DBC838C1C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right version is now install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v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92B15-BD48-4241-A558-ECE1FCDC06F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5ED79-5AFC-4C16-8108-22D76C538FF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9 Mailing Lis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oining mail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services/public/lists/bind-lists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9-users, bind-annou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bind-users is for bind8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rchi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ml-archives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71676-6DC7-4557-A016-3D65B13928D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8D8F5-4063-435C-9729-3565DA34DF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trieving 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net Software Consortiu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packages we'll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98F68-2A04-440F-8AA5-DE4D2D1B0D5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net Software Consortium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urce for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Software: DHCP, NN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der Development: OpenReg (EPP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F0611-40A3-4F36-B6CD-24438F6EB9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n use, available, obsolet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on't start to use i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igrate to Version 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(Okay, BIND 8 is faster than BIND 9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9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urrent vers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 Candidate (Bet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napshots (Alph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ever Use Snapshots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A497D-E8A2-4795-90DB-E9AF13EE98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BIND 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/products/BIND/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http://www.isc.org/products/BIND/bind9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http://www.isc.org/products/BIND/bind9-beta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2.rc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ftp.isc.org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 - anonymou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hange Directory to /isc/bind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2rc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tp://ftp.isc.org/isc/bind9/9.2.2rc1/bind-9.2.2rc1.tar.gz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8109F-2D0B-4ED7-AE13-9E61A5B87E5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Packag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SS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ill be needed for DNSSE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et's wait on that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64CC3-1414-4712-9227-3CF6E54C8C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EBA8C-B0EB-49A2-BFDD-AD1759291E9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npack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ar -xzf bind-9.2.2rc1.tar.gz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compresses and creates direct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-9.2.2rc1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's in ther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lot of stu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configure (scri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doc/arm/Bv9ARM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's Reference Manu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ood source!!!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75EE2-8028-486B-9C6E-31A7923600F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1:37:02Z</dcterms:created>
  <dc:creator>ARIN Net</dc:creator>
  <dc:description/>
  <dc:language>en-US</dc:language>
  <cp:lastModifiedBy>Marmaduke Wildebeeste</cp:lastModifiedBy>
  <cp:lastPrinted>2009-04-22T19:24:48Z</cp:lastPrinted>
  <dcterms:modified xsi:type="dcterms:W3CDTF">2003-06-01T20:46:17Z</dcterms:modified>
  <cp:revision>11</cp:revision>
  <dc:subject/>
  <dc:title>Getting and Installing BIND</dc:title>
</cp:coreProperties>
</file>